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3E7-04EB-445D-AB7A-24325787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D83-0F36-4E88-8F36-FEBF3F4A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28755-5E1D-4C46-BE62-8F693BB2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FBC48-E081-454E-98D6-4F947839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EF878-2092-40F6-99E5-6C85E9A6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40A53-6DC0-4570-8451-440AA942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82411-B475-4253-863F-AECA8BD8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59C31-B0CB-45B9-AF55-6EF05CA8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ED152-1E85-4177-8B94-EDB6860E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3030C-393D-412E-A900-3E61A814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AA0D8-4D62-4536-98C7-5FE82005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C96FC-98EE-46C2-9F2B-C49535CF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617-F4CF-4C13-95C3-35C0D8F8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A17AC-E56B-4CC2-8315-201AFEA0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303E5-BC50-4EB6-8BD8-B702BACE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FD72C-62A3-4EC1-958A-70B7195B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D88A7-5019-49EA-9BA5-BE38E0AC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4E876-2C34-4EB8-8621-8BDA5B42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E615F-4958-49BA-9112-8D33FA0E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0EF4E-3CF4-4761-BCA0-CF37BDFB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FCB96-26DB-42ED-82DF-8426FD36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14E98-CA30-4980-8DF9-93437A4C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33FD8-A6C3-4ADD-9210-CFEB4039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87B-A305-4C52-8D09-DA159D69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BA760-86AE-4BE2-BB8E-678CF19E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F0B5C-2878-48E7-872F-7E92831C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D5F6E-AA1D-4D6B-898D-3F0C2043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3A160-E244-4EAE-85D0-FA1D409D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3E895-1408-4C2E-A232-65D7FD6F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01DD6-B4C5-481A-A612-C6A945B0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96159-09A6-4878-86E3-A9C4B412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4AB2A-BB0D-4C68-BA10-62E7BEB8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7D7A5-BF74-4806-A879-601C65C6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C065E-7D7D-4A76-828E-8DF6554A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EB85-786F-449D-BB55-CA217C0F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5E8FF-D975-4ACA-8113-A5171EB1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4B720-4178-46B7-B706-7774B5E5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F2146-D50D-495B-A48E-69F97C2C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1A5EC-8504-4E9D-A9FA-18BF0636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B068E-5A4D-4A00-BCCE-09385526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9A507-8B39-4E1E-845B-56F05AF2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27F0E-230C-41BE-8107-09D1FEE0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148A7-20D1-4A51-9985-F7D70BE4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346A7-0E70-4514-A1C9-1B2F44E2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BB5E2-C0FD-45A5-9094-C6A5E136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26DF-F47A-4CB4-9BDC-C1C7E463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B9464-DA70-48B8-8492-E4E5F252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98FE1-85AD-47BC-AF0E-0035A1CB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FEBA6-A2E9-471B-963D-CF5CACDE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87865-81C7-40CB-A684-BA3EA073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E6D89-A98B-47B5-9F2D-B559BEBF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E9180-7469-4C04-ACAE-46111118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52518-2679-4870-BFFD-27AFF9A5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86ED3-715B-4F46-A3C5-B9D7B5B4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A0346-AC2A-4413-9B0F-0C63A135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F1F99-8627-4C79-9665-23CAE08E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9BA8-12EB-462D-90AF-4C12BFC4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F402C2-636A-4BD7-AA81-3DAC48FE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4038B-2EC2-4B59-9BEC-5B919FA3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17D12-A46D-4D0F-93EE-28AC4257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1EA59F-3BFB-4D8A-A4B4-1AE72DDD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CCC03-A79D-417C-AF9D-5736BF05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25BAC-A1FA-4AA2-8D04-5B906611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77ECC-CC85-442A-837B-867A5DC0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BE6B2-19A7-46AE-A5D4-EC796E7E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480AC-A318-4F23-9BA1-D8F131EA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1E3A0-3AB6-40B5-99EB-5C0286F9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30DD-A3BF-4FDC-9195-6388573F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79C322-1C73-4D54-BA50-F4A774F2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ADF960-385E-4780-AC40-5416ED5D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2ED4BD-5B77-4AB1-9C81-8557F04A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98D91-A333-45E3-AB06-3909E880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CD460-EB9E-4C39-B05E-271769D9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73F61-EA53-428E-ACA1-DD742BF6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AEA1B6-8AA9-4A03-B8FE-65A0800C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6420A6-7617-4484-8601-DAF86120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AAE802-5A3C-415E-B83F-5CCE3C9A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1D1323-8714-49FD-B125-F2598A79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E869-40D0-4F09-B8F0-9049229C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F1BE15-2321-411E-993A-B39D89DF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0927C5-31DD-4828-BB43-3A9575EC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CAD10-89A0-433A-AAFB-33BBD5F5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E39D76-7856-4CEC-BB8B-DDDC03A7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F60EA-58C6-4F5D-8D96-64E11949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A9C9AF-CD9E-4119-A08E-909A298C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3C8165-101A-4070-9D65-C59B56FC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5EC931-B1E8-431F-ABA8-AFCA140D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62E99-71F8-4FEE-B225-C5DF080E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4ACDA-E28C-48D5-B75E-EB9323D0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F223-205F-4B59-939A-E1A67A75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950F04-C849-470E-BD24-3D844FBC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700BA5-3CA6-4014-8981-708C55D2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36B59B-9096-4F73-ABBC-C4835209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40A7DC-3668-4088-B3A6-F848AE7D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0708D9-37D3-4ED7-980A-9582622B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07D92C-4444-4584-A6EC-1E986D92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B0C745-FC82-43CE-B1FF-F77DB590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EA0670-B768-4E7C-9FF3-77BD6055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29AE59-CB52-4FDA-A172-AE57AD8D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CC010A-4FBB-4841-9F57-1DC013F9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EB54-9750-4845-A54C-093847B4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3E3956-653F-4206-AE4A-1993E833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002ACF-45F0-4EE8-A1AC-0083A02C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2448B9-9FBF-4E74-BEA7-5E652A5B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959057-F533-4650-90A6-82B9DE52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DAA18F-DE00-4B56-99CF-569E8E9B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7CB290-6D15-4525-9357-78DE9913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F66C62-B10A-479D-8D01-387308FE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05A057-7DDA-4963-B1DC-E47CA19C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65D7A5-42AB-4C29-AC88-3FECE212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9E13DB-C167-4F3A-98D4-4097DF17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A074-506E-4874-87F9-FFB5179F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F10F-116A-444A-B104-B8CD3C08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CF2CD2-7C80-4E04-B271-46EB4D32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932D4C-4AD1-4520-A3BC-85F78A8B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FE18BD-7CF5-4E38-8453-64654846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B952F9-1ADE-416A-BFC4-763851AE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636E48-E7D4-4549-93F4-5D8A56C1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1E2878-05CC-41DF-93B9-FFADF04F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B4D491-D339-49BD-93B2-9046D34F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EE1F35-8EC2-440C-9D20-ED3D43F1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4FDD99-8ED5-41E5-A508-8B7B460B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15D282-77B9-41DE-9975-48838BE7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3F8B-4EAA-447C-B4A2-BE0EB480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116E76-0203-45BB-B752-371B0803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553D48-B4A4-47C7-B4DE-22B444FF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7AE1E-40A4-4F53-B701-2897826D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5FF077-2904-447F-B2B6-BB938756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017AAF-BCC6-4B10-8668-34A1D277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F31C76-0F5A-4C48-AAAE-CB3FDBB5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CBE5EE-CDA2-45E5-B6A7-A19A18F3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65AE28-CEA0-4ADE-9217-E6028988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74B133-5BBC-4E26-ABB0-2127760C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DDD5CE-A7EB-438B-9338-4E46CF0B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DC6F-832D-4BA1-B7AA-EB8FCB82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D7FE32-2CDF-4816-8BDA-421AE322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FE79C9-2E7B-47BD-AA16-D137F531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0A5876-045D-4265-B217-67811803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8FBF8B-1896-4B5A-85A9-92C67D54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6ECB3F-14A7-4E9F-B42E-3ADE95D3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5D1F7D-2CB8-42D7-866C-9DC002C6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9E504D-2300-4137-8D42-A3013A7F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A401EE-C153-4D75-B5CD-11C9A103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6545AA-5DE2-48F4-9C98-54C523C6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4CA0B9-ED23-4D07-8006-8AD167FE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C0E7-B5AA-498B-883F-76CBEF25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B2F522-0D98-4544-B210-4306CCB5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35D429-8912-44F0-B12D-7A04789B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F39B9F-6BBC-41C8-B96D-9C36F8AB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B65A21-1B02-4DB6-9721-9FBF54D4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66F4AF-CB9B-40E6-BD4E-4DFE2B9E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486473-18DD-423F-B598-24C8E5CF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957537-3B73-4F43-8B45-A7655024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2E9299-4377-4028-9BAF-58C7F3BB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061187-40C9-4C23-A240-C880FC14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9A2EE4-50F5-4F46-B92B-0E88C738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D402-4F8B-4A61-8738-88D97AE4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D3C3E2-6E6C-4D74-BA3D-4440E186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CF2868-62B8-4C32-8DE2-68BAFE09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499FA0-B1F5-4EC0-96A6-D7723EB9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F3177B-C9EE-46C7-B28C-DB1C0562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A2C3A9-7907-491D-95E5-51CE770D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E89F0D-C80B-4FDA-BF5E-676BBAA3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1ED9B6-F33B-4F49-A83D-39424D9D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05C15E-E604-4772-85A6-FCE17983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0B9D30-CA27-46A9-B5B5-FE3AA269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8457F2-27C2-46AF-B128-871EA492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15A8E-4C58-4973-B2FA-79D411C8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A6ED5A-EFA0-4F19-B827-2D94BA75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276C30-BDB8-4C8E-B7CA-8C2F2786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3A8CFF-966C-457E-A896-B88546B4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2FBC5-5884-4A19-8179-DAEAD74D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FBAB1-D195-4E2F-BD9E-2A08AD72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3A8EF-290F-45E2-B25C-1660B136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08149-4891-489F-BF81-B31417E1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FD76-42BD-4735-8578-2BEB951F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26F9E-1833-4B92-B03A-37C704F7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E92D8-6ADD-445F-92EF-3CC0A381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6EB13-4EBE-4C83-B1C0-83C77247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E6E7B-93BF-4535-B28B-213CF6E7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07D02-6754-406C-B94E-7F3B0B54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CA1BE-4046-41E7-9372-06D47794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E2FBF-47A5-4020-BC3C-C54E4A19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C9A34-4637-4F47-A6DB-FFAE6FE3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B0C22-BE26-4264-927F-1DC22168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98218-5A08-4E04-90DE-F75BE18A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993-DBB0-4DFE-A028-E666C403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2989D-4049-4CC5-AA80-5865BF75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01112-4BBB-492C-8835-7AB702FD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22ABB-522C-49D6-9186-76D69D04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5C331-4773-4D49-B51D-17C4827F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FFAD3-E5A9-4923-B9CE-DBD8AA26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945A6-C6E6-481E-A0A5-43F77A5D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A996C-B416-4469-BFF3-4D18DD1F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C08A3-78BB-489A-AC72-7CD141B9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19F7F-E539-40B9-A50E-A6E5F719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D1D9A-26C6-44BD-821C-F23DCFD7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37F-F133-4670-8334-4BC31534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2CE85-35B0-4B5E-8290-0FDB7613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F7F5E-B73D-4194-9260-C7A5F64E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AECF7-8B64-4678-BF2B-19F17C88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2DBC3-2006-4DCB-AFB2-8FFB6271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AD625-9CDB-419A-A14C-DA781EB1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C34C5-741D-49AD-B8A6-DEE369E8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52FBC-90A1-439C-8128-B75AF4D3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6ED46-C074-45F5-9DE7-A89DE6B8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7FB14-7F13-41E2-AAC2-5F587204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2880C-5683-4885-AE24-9BE37AAE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390-0A4E-40FD-B8B5-BE082794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C73DC-EA3D-486D-ABCE-94B6535F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D4C8F-2A5D-4DDA-AF6E-F57D289E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BB87D-95E8-4982-8B8D-6D122E1D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30D70-1482-4A8D-B0C4-2AC6A745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C8C85-F729-4EB9-9CD5-05F7F61B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47010-FDDD-4F48-88EA-907ADCC0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37DBE-836E-4E81-B2DD-5DBFC738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3C1AE-1244-4A8B-9DE0-3311A9FF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D7AAC-5CDA-4DC8-9FE5-A182CCA9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14C2A-AC12-48CA-B04A-BF2E9A5E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F85-3E73-437B-AA75-5A59F048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B1486-107D-427C-8ACE-A9B57881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86A14-7F3E-4897-B101-B3F6682A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7DEE8-4CA9-49E8-9EFE-DA35966B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8230C-2113-4425-B8E4-71A8F947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5E1B2-0327-42BD-8D59-C3F006D0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3D069-53F2-4982-B43C-AD616E45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EA730-65A4-4E02-8F28-423D26B1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3DCBA-528C-41E0-B4BC-E3548BB3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101D1-5D99-4913-911F-06FDE012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5B07F-2F42-46CB-8B37-D09A033B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2F0-3247-4A46-87CA-1D77F875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ABC80-4667-497F-AA9A-8F2FCE41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E3438-C4FF-4B28-98BD-70B38BB8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39D9C-0485-49E4-A5CF-479C7DBC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9AA34-CF88-4B85-A71B-D45C4783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DDC57-6CE9-4179-BB7B-C3D2635A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B34C8-5D3B-4929-9617-6EA4607D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C65E6-6709-40AE-9627-15FEE106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2F87C-5771-4FC9-87DA-2C8D08BB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24899-2082-432D-8E56-FEB71E87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FCEC4-30E9-4F14-956B-F196F208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C821-5D00-4938-8701-B34974CA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3EC0F-ECC1-454F-9B0F-6CDD837A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16F3D-C604-49FC-89C9-BB30CDF9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D0D15-3F71-46B3-B8B7-DC37BE78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9C3C1-6E9B-405B-97A0-D39732FA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C2DBF-5B2D-4895-9B73-EC853CFB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4E0DC-403E-40CE-9D5E-30D92AEA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2680D-E2E4-4F71-BF4E-B2BCFCB4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E1D06-D89F-45EF-8D82-7D21B385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C4DF9-D392-45B2-8651-9999C2B0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B1B49-9A9C-4791-A05B-0D0D4A85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4B8E-E2C7-4693-8500-83EE7A2436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BA39-2B11-4E29-9E73-0E281BBD54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DC5F-5888-4CF2-BB23-254B67BECF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827D-3B40-4340-8C3C-1208CDDF0D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59CE-E7CB-442E-AF2B-570D40B10C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088D-C09A-4B2F-86D6-BEEDCD0EC0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E870-56F5-422B-85B3-E845B49F9A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145E-AF58-4F36-A5FF-3F4D4E8117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3E28-C031-4CF4-A87F-A0DFD75D9A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6239-7878-489B-8EF4-9628E9B108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4625-E4C2-4FDA-8372-244EECA8CB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D063-3301-4EB7-8B70-D8C9223B22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5CE2-4483-4F52-9C09-0642A7109A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01A3-12EF-42DC-B28D-E0648337B4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A9AC-1E3E-4E73-80EC-02DC0DB824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0BDE-EB62-45ED-A9A7-99C206612A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8EFB-9BB9-4272-A75B-88103422DE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2B37-91BE-4EF4-B175-A86250C4BA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3899-F122-4E42-BECF-BF558334B9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F779-C7D2-4327-A39A-BA105727CC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2892-B5B2-441B-893A-D8D24E2BB1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0437-BDC9-41F5-A2A6-365EC02C5B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6348-09EC-47F8-8BA8-626E06014C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EEA7-B40E-4F10-95F5-A31DEBCE3C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3FB1-0C36-4071-B9B5-88F56C3053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38FF-83E1-4A9A-8F62-86FEA8DE49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75F7-D322-4616-8703-55B0452EC3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DF2B-8C3D-43EC-8477-B3B4DB8D84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EF64-E9DF-4818-A7B7-8E908006CF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EE77-EFD6-4D60-9F5A-B14C448B35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3E99-2DDA-433D-8311-188D39FA62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9EED-3892-4DEE-8DE9-9540E87235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52C3-16C9-473D-930E-8D2AAA542E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E692-2B42-4E5D-890D-5F235A4C6C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2658-A5B5-4AD3-A6C0-11A47277A0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A33E-8B49-4A85-9D84-7473A589D7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16E7-2139-431A-BFD8-DF18D50614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083D-6AA4-4DDB-B729-CE0A3FC740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6C91-3C04-40E9-A7AF-0FF3BB5487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739A-B886-4AB8-A8BD-E7C370FCFD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152360" y="3086280"/>
            <a:ext cx="68392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66760" y="1295280"/>
            <a:ext cx="8610480" cy="42674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076720" y="2938320"/>
            <a:ext cx="1295640" cy="4986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195640" y="4292640"/>
            <a:ext cx="1295280" cy="4986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093080" y="4365720"/>
            <a:ext cx="129528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571680" y="554040"/>
            <a:ext cx="8001000" cy="6114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2556000" y="1211400"/>
            <a:ext cx="720720" cy="4982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4572000" y="1239840"/>
            <a:ext cx="1079640" cy="4986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1692360" y="1916280"/>
            <a:ext cx="720720" cy="4982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3780000" y="1916280"/>
            <a:ext cx="720720" cy="4982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2325600" y="2608200"/>
            <a:ext cx="647640" cy="4986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6227640" y="2679840"/>
            <a:ext cx="648000" cy="4982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8"/>
          <a:stretch/>
        </p:blipFill>
        <p:spPr>
          <a:xfrm>
            <a:off x="2484360" y="3313080"/>
            <a:ext cx="1079640" cy="498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9"/>
          <a:stretch/>
        </p:blipFill>
        <p:spPr>
          <a:xfrm>
            <a:off x="2771640" y="4005360"/>
            <a:ext cx="1008360" cy="4982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0"/>
          <a:stretch/>
        </p:blipFill>
        <p:spPr>
          <a:xfrm>
            <a:off x="5508720" y="400536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1"/>
          <a:stretch/>
        </p:blipFill>
        <p:spPr>
          <a:xfrm>
            <a:off x="3492360" y="4695840"/>
            <a:ext cx="1008360" cy="4986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2"/>
          <a:stretch/>
        </p:blipFill>
        <p:spPr>
          <a:xfrm>
            <a:off x="5997600" y="4724280"/>
            <a:ext cx="1008000" cy="4986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3"/>
          <a:stretch/>
        </p:blipFill>
        <p:spPr>
          <a:xfrm>
            <a:off x="3219480" y="538812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4"/>
          <a:stretch/>
        </p:blipFill>
        <p:spPr>
          <a:xfrm>
            <a:off x="5796000" y="5416560"/>
            <a:ext cx="1368360" cy="4986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5"/>
          <a:stretch/>
        </p:blipFill>
        <p:spPr>
          <a:xfrm>
            <a:off x="3203640" y="6107040"/>
            <a:ext cx="1008000" cy="4986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6"/>
          <a:stretch/>
        </p:blipFill>
        <p:spPr>
          <a:xfrm>
            <a:off x="5508720" y="6121440"/>
            <a:ext cx="151128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8373" descr=""/>
          <p:cNvPicPr/>
          <p:nvPr/>
        </p:nvPicPr>
        <p:blipFill>
          <a:blip r:embed="rId1"/>
          <a:stretch/>
        </p:blipFill>
        <p:spPr>
          <a:xfrm>
            <a:off x="290520" y="1038240"/>
            <a:ext cx="8562960" cy="4781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7596360" y="184464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7596360" y="321300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7596360" y="4624560"/>
            <a:ext cx="720720" cy="4982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7596360" y="5300640"/>
            <a:ext cx="7207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7352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416720" cy="65102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2685960" y="321300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6286680" y="321300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2914560" y="6222960"/>
            <a:ext cx="505080" cy="4986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6559560" y="6230880"/>
            <a:ext cx="5047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6324" descr=""/>
          <p:cNvPicPr/>
          <p:nvPr/>
        </p:nvPicPr>
        <p:blipFill>
          <a:blip r:embed="rId1"/>
          <a:stretch/>
        </p:blipFill>
        <p:spPr>
          <a:xfrm>
            <a:off x="281160" y="1090440"/>
            <a:ext cx="8581680" cy="46771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5761080" cy="4986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684360" y="3962520"/>
            <a:ext cx="5760720" cy="4982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611280" y="4565520"/>
            <a:ext cx="8281800" cy="4986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468360" y="5172120"/>
            <a:ext cx="82818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5300" descr=""/>
          <p:cNvPicPr/>
          <p:nvPr/>
        </p:nvPicPr>
        <p:blipFill>
          <a:blip r:embed="rId1"/>
          <a:stretch/>
        </p:blipFill>
        <p:spPr>
          <a:xfrm>
            <a:off x="652320" y="1609560"/>
            <a:ext cx="783936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4276" descr=""/>
          <p:cNvPicPr/>
          <p:nvPr/>
        </p:nvPicPr>
        <p:blipFill>
          <a:blip r:embed="rId1"/>
          <a:stretch/>
        </p:blipFill>
        <p:spPr>
          <a:xfrm>
            <a:off x="743040" y="560520"/>
            <a:ext cx="7657920" cy="6181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1116000" y="1182600"/>
            <a:ext cx="3024360" cy="4986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3024360" cy="498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1042920" y="1773360"/>
            <a:ext cx="3024360" cy="4982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900000" y="2320920"/>
            <a:ext cx="4896000" cy="4986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755640" y="2924280"/>
            <a:ext cx="7777080" cy="4982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7"/>
          <a:stretch/>
        </p:blipFill>
        <p:spPr>
          <a:xfrm>
            <a:off x="1187280" y="4451400"/>
            <a:ext cx="3384720" cy="4986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8"/>
          <a:stretch/>
        </p:blipFill>
        <p:spPr>
          <a:xfrm>
            <a:off x="4859280" y="4508640"/>
            <a:ext cx="3384720" cy="4982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9"/>
          <a:stretch/>
        </p:blipFill>
        <p:spPr>
          <a:xfrm>
            <a:off x="971640" y="5084640"/>
            <a:ext cx="3384360" cy="4986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0"/>
          <a:stretch/>
        </p:blipFill>
        <p:spPr>
          <a:xfrm>
            <a:off x="971640" y="5632560"/>
            <a:ext cx="6913440" cy="4982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1"/>
          <a:stretch/>
        </p:blipFill>
        <p:spPr>
          <a:xfrm>
            <a:off x="1042920" y="6208560"/>
            <a:ext cx="69138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52231" descr=""/>
          <p:cNvPicPr/>
          <p:nvPr/>
        </p:nvPicPr>
        <p:blipFill>
          <a:blip r:embed="rId1"/>
          <a:stretch/>
        </p:blipFill>
        <p:spPr>
          <a:xfrm>
            <a:off x="290520" y="115920"/>
            <a:ext cx="8242200" cy="65548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"/>
          <a:stretch/>
        </p:blipFill>
        <p:spPr>
          <a:xfrm>
            <a:off x="755640" y="4479840"/>
            <a:ext cx="5832360" cy="4986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3"/>
          <a:stretch/>
        </p:blipFill>
        <p:spPr>
          <a:xfrm>
            <a:off x="684360" y="5013360"/>
            <a:ext cx="5832360" cy="4986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4"/>
          <a:stretch/>
        </p:blipFill>
        <p:spPr>
          <a:xfrm>
            <a:off x="826920" y="5589720"/>
            <a:ext cx="5832720" cy="4982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5"/>
          <a:stretch/>
        </p:blipFill>
        <p:spPr>
          <a:xfrm>
            <a:off x="755640" y="6149880"/>
            <a:ext cx="5832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1:20:3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